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C82-C4AD-4DC1-A49C-CA818942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DCB-BE2F-4251-ACEA-AF3D3959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751-511F-4193-8180-76FA9887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AA8-CB49-4F21-87EE-E373874E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2C7-3C12-41F9-B2F1-244E7E0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1AE-89A8-48B5-8A1B-52087F8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D7B-2D66-4AF6-8630-DBD0263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FB5-98D0-45EA-97C3-2942B5E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8BE-733E-4019-90C4-0659F22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E21-CB6F-4B98-B9CA-E5369C5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781-718A-49EA-9A4B-5F764E1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20D-D934-4C7B-A64A-E65DFB1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6F5-B1C9-4352-A457-89DB2758BE7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OL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(Primera Evaluació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ienes pueden convocar una Huelg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249984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PRESENTANTES DE LOS TRABAJADORES (delegados y comi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OPIOS TRABAJADORES DE LA PLANTILLA CON UN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ual es la duración maxima del Período de Prueba p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50020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écnicos Titulados:  6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sto de trabajadores: 2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sto de trabajadores en empresas de menos de 25 trabajadores: 3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Cuál es la edad legal para trabaj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16 AÑ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Cuales son los efectos o consecuencias de secundar una huelga para los/as trabajadores/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EXTINCIÓN DE LA RELACION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SPENSIÓN DEL CON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SAL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COTIZACIÓN (DESEMPLEO, 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TA ESPECIAL EN S.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De qué formas se puede formalizar un contrato de trabaj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857320"/>
            <a:ext cx="64008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ESCR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A quiénes hay que comunicar la convocatoria de huelg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EMPRESAS O EMPRESARIOS AFECT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AUTORIADAD LABORAL (Juzgado de lo Soci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Con cuánto tiempo de antelación, mínimo, se ha de comunicar la convocatoria de una Huelg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5 d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10 en servicios públ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umerar los apartados de un contrato de traba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ODAL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IPO DE CONTRA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TOS DE LA EMP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TOS DEL TRABAJ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UTORIZACIÓN A MEN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LAUSUL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UESTO Y CATEGORIA PROFES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JOR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URACIÓN Y PERÍODO DE PRUEB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TRIBU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ACAC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DEMNIZ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VENIO COLEC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FICINA DE EMP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ECHA Y FI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umerar 3 derechos de los trabaj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umerar 3 Obligaciones de los trabaj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formas tienen las normas que aprueba el Parlamento por mayoría absoluta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y orga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ORDENA LAS SIGUIENTE NORMAS SEGÚN SU RANGO (Jerarquía normativ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eyes Ordinarias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irectivas Comunitarias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venio Colectivo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eyes Orgánicas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ales Decretos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ales Decreto-Ley (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trato de Trabajo (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Enumerar las parcelas del Derecho Públ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titu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minist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nacional públ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 en el Parlamento Europe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DIRECTIVA Y REGL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Enumerar las parcelas del Derecho Priv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RCA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BORAL O DEL TRABA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NACIONAL PRI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 el Consejo de Ministr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AL DECR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n entre empresarios y trabaj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CONVENIOS COLECTIV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CONTRATOS DE TRABAJ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SO COSTUMBRES LOCALES Y PROFESIO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Qué condiciones tiene que cumplir el trabajo para que se pueda aplicar el Derecho del trabaj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LIBRE Y VOLUN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UENTA AJ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TRIBU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GIMEN DE DEPEND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13:35Z</dcterms:created>
  <dc:creator>usuario</dc:creator>
  <dc:description/>
  <dc:language>en-US</dc:language>
  <cp:lastModifiedBy>Automoción</cp:lastModifiedBy>
  <dcterms:modified xsi:type="dcterms:W3CDTF">2010-11-30T18:35:08Z</dcterms:modified>
  <cp:revision>13</cp:revision>
  <dc:subject/>
  <dc:title>¿Qué formas tienen las normas que aprueba el Parlamento por mayoría absoluta?</dc:title>
</cp:coreProperties>
</file>